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FC0-5E82-4B2B-90CD-9196BE4C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053-84AF-4D47-B0E1-6AC22CBF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42C-D298-43C8-BDBA-86B512C2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2CA-F834-44E3-9DB2-95375ECE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8E2-5C34-4A5D-93C0-CAE5BA04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4B4-E9AB-40CD-B70D-F3E39A32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633-8A06-4A6B-8B47-A8ED6049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05B-53C6-406A-B443-DEF1BE17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26B-F44F-44D6-B089-CE83A727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C80-B11A-4672-93F0-7278DA0A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1F1-E064-4789-A531-AC7D4A1E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151-BD61-4CA0-8FB0-DA7049D3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6C614-DA48-45EF-AC53-79D598E0C975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440" y="2760480"/>
            <a:ext cx="793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CMYNN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OST TESTING EVALUATION RESULTS</a:t>
            </a:r>
            <a:br>
              <a:rPr sz="4400"/>
            </a:br>
            <a:r>
              <a:rPr b="0" lang="it-IT" sz="3200" spc="-1" strike="noStrike">
                <a:solidFill>
                  <a:srgbClr val="4a452a"/>
                </a:solidFill>
                <a:latin typeface="Calibri"/>
              </a:rPr>
              <a:t>PETRA NEAMT,MARCH 28-30 2017</a:t>
            </a:r>
            <a:br>
              <a:rPr sz="3600"/>
            </a:br>
            <a:r>
              <a:rPr b="0" lang="en-GB" sz="4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it-IT" sz="4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ECMYNN---Logo2"/>
          <p:cNvPicPr/>
          <p:nvPr/>
        </p:nvPicPr>
        <p:blipFill>
          <a:blip r:embed="rId1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Immagine 7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44" name="Immagine 8" descr=""/>
          <p:cNvPicPr/>
          <p:nvPr/>
        </p:nvPicPr>
        <p:blipFill>
          <a:blip r:embed="rId3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85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87" name="CasellaDiTesto 4"/>
          <p:cNvSpPr/>
          <p:nvPr/>
        </p:nvSpPr>
        <p:spPr>
          <a:xfrm>
            <a:off x="365040" y="1131840"/>
            <a:ext cx="85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 GATHERED GUIDELINES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.THE IMPORTANCE OF A LOCAL  STRATEGIC NETWORK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984320"/>
          <a:ext cx="9144000" cy="3575160"/>
        </p:xfrm>
        <a:graphic>
          <a:graphicData uri="http://schemas.openxmlformats.org/drawingml/2006/table">
            <a:tbl>
              <a:tblPr/>
              <a:tblGrid>
                <a:gridCol w="1544760"/>
                <a:gridCol w="3065400"/>
                <a:gridCol w="4533840"/>
              </a:tblGrid>
              <a:tr h="47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Dimen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Guide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Spec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601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Strategic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Involvement of territories and stakehol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In order to create an effective platform of Neet suport, it is very important to think in terms of local network. Just in that way a common and shared awareness grows up and it can generate the proper common intelligenc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Work hard for sharing the new labour market frame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It is very common a very short view about labour market processes, basically the search for a job. NEETs have not an adequate perception and willingness to invest in themselves, even after their stud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365040" y="1131840"/>
            <a:ext cx="85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NALLY.. SOME LEARNED LESSONS AFTER PARTNERS’ EXPERIENCES WITH N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2065320"/>
          <a:ext cx="9144000" cy="42386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l channels are very effective to attract N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Ts needs, first of all, MOTIVATION AND FULL SUPPORT. That’s because personalized coaching is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soft skills development is crucial in order to support N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with stakeholders are very effective. By this way NEETs have the possibility to build new relationships with peers and with local companies as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ces for convers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discussion about the present-day context and the challenge for the future about formation and youth professional integration are essenti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 program of activities for NEETs must to be very flexible and adaptable to the participants need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95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1"/>
          <p:cNvSpPr/>
          <p:nvPr/>
        </p:nvSpPr>
        <p:spPr>
          <a:xfrm>
            <a:off x="870120" y="3021120"/>
            <a:ext cx="64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anks for your atten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46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sp>
        <p:nvSpPr>
          <p:cNvPr id="47" name="CasellaDiTesto 12"/>
          <p:cNvSpPr/>
          <p:nvPr/>
        </p:nvSpPr>
        <p:spPr>
          <a:xfrm>
            <a:off x="447840" y="131904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YNX’s ”P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 testing evaluation toolkit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YNX Territorio Sociale shared with all partners customized tools to evaluate the innovative service after the post testing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ndicators of performance Grid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, setted on the basis of three macro objectives of ATTRACTION, MANAGEMENT AND COMMUNICATION/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Common post testing evaluation Format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, cont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nnovative servic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Context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Notable aspect of developed innovativ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Main results of the service and outpu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essons learned during activities with N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A Follow up to institutionalization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50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1"/>
          <p:cNvSpPr/>
          <p:nvPr/>
        </p:nvSpPr>
        <p:spPr>
          <a:xfrm>
            <a:off x="712800" y="1847880"/>
            <a:ext cx="771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hanks to the toolkit, the IO4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HOW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he outputs of innovative services as they was realized in each of specific partners’ loc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CORD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for each of the partners, the reached results about the dimensions of: Attraction of NEETs, Management of NEETs, Communication and dissemination of the outputs, involvement degree of relevant local stakeholders (where it was releva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ATHER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he guidelines for institutionalization of the tested services for N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LLEC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the notable aspects and the lessons learned during the testing phase, as they was reported by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pic>
        <p:nvPicPr>
          <p:cNvPr id="56" name="Oggetto 2" descr=""/>
          <p:cNvPicPr/>
          <p:nvPr/>
        </p:nvPicPr>
        <p:blipFill>
          <a:blip r:embed="rId4"/>
          <a:stretch/>
        </p:blipFill>
        <p:spPr>
          <a:xfrm>
            <a:off x="141120" y="1884240"/>
            <a:ext cx="8902800" cy="274176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3"/>
          <p:cNvSpPr/>
          <p:nvPr/>
        </p:nvSpPr>
        <p:spPr>
          <a:xfrm>
            <a:off x="447840" y="1290600"/>
            <a:ext cx="81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me data after the testing ph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3480" y="1644480"/>
          <a:ext cx="9091440" cy="4948560"/>
        </p:xfrm>
        <a:graphic>
          <a:graphicData uri="http://schemas.openxmlformats.org/drawingml/2006/table">
            <a:tbl>
              <a:tblPr/>
              <a:tblGrid>
                <a:gridCol w="4883040"/>
                <a:gridCol w="4208400"/>
              </a:tblGrid>
              <a:tr h="36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ev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with the participation of local stakeholders and delegations from local compan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 (Party with NE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 (Opportunity cocktai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 (NEETs contex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and counselling Activ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aching, personal development, CV drafting, laboratories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base empower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 learning Evaluation / satisfaction recor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network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CasellaDiTesto 2"/>
          <p:cNvSpPr/>
          <p:nvPr/>
        </p:nvSpPr>
        <p:spPr>
          <a:xfrm>
            <a:off x="1363680" y="1220760"/>
            <a:ext cx="48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in activities done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64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1"/>
          <p:cNvSpPr/>
          <p:nvPr/>
        </p:nvSpPr>
        <p:spPr>
          <a:xfrm>
            <a:off x="447840" y="118116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 innovative components adopted in local contextes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674720"/>
          <a:ext cx="9144000" cy="5079960"/>
        </p:xfrm>
        <a:graphic>
          <a:graphicData uri="http://schemas.openxmlformats.org/drawingml/2006/table">
            <a:tbl>
              <a:tblPr/>
              <a:tblGrid>
                <a:gridCol w="3238560"/>
                <a:gridCol w="5905440"/>
              </a:tblGrid>
              <a:tr h="3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NOVATIVE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072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Involvement of peer group for planning and managing of the event called "WorkNparty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l place in which the institution meet the young people  (worknparty was carried out in a swimming po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vi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ive utilization of soci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5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Customised and oriented questionnai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649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Promotional vi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ive utilization of soci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Opportunity cockt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175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line questionnaire and registration for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 –to face interview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8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ive utilization of soci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343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Main focus on counselling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ive utilization of social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69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71" name="CasellaDiTesto 1"/>
          <p:cNvSpPr/>
          <p:nvPr/>
        </p:nvSpPr>
        <p:spPr>
          <a:xfrm>
            <a:off x="447840" y="1558800"/>
            <a:ext cx="82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 couple of notable aspects regarding NEETs attraction to be underlined after the recorded experiences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2"/>
          <p:cNvSpPr/>
          <p:nvPr/>
        </p:nvSpPr>
        <p:spPr>
          <a:xfrm>
            <a:off x="557280" y="2282760"/>
            <a:ext cx="819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c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s setted up on the habitual ways of youngsters, using massively social networks, mobile apps, video edit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ttraction of NEETs started from ev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Events like pool party or opportunity Cocktails, realised in a friendly environment, contributed to the best attraction of NEETs and helped to make feel them mo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fortab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participating to the projec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3"/>
          <p:cNvSpPr/>
          <p:nvPr/>
        </p:nvSpPr>
        <p:spPr>
          <a:xfrm>
            <a:off x="939960" y="5481720"/>
            <a:ext cx="76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formal ways are a good choi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75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pic>
        <p:nvPicPr>
          <p:cNvPr id="77" name="Oggetto 1" descr=""/>
          <p:cNvPicPr/>
          <p:nvPr/>
        </p:nvPicPr>
        <p:blipFill>
          <a:blip r:embed="rId4"/>
          <a:stretch/>
        </p:blipFill>
        <p:spPr>
          <a:xfrm>
            <a:off x="-9360" y="1606680"/>
            <a:ext cx="9153360" cy="5251320"/>
          </a:xfrm>
          <a:prstGeom prst="rect">
            <a:avLst/>
          </a:prstGeom>
          <a:ln w="0">
            <a:noFill/>
          </a:ln>
        </p:spPr>
      </p:pic>
      <p:sp>
        <p:nvSpPr>
          <p:cNvPr id="78" name="CasellaDiTesto 2"/>
          <p:cNvSpPr/>
          <p:nvPr/>
        </p:nvSpPr>
        <p:spPr>
          <a:xfrm>
            <a:off x="365040" y="11318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 GATHERED GUIDELINES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. NEETS ATTRACTION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magine 8" descr=""/>
          <p:cNvPicPr/>
          <p:nvPr/>
        </p:nvPicPr>
        <p:blipFill>
          <a:blip r:embed="rId1"/>
          <a:stretch/>
        </p:blipFill>
        <p:spPr>
          <a:xfrm>
            <a:off x="447840" y="434880"/>
            <a:ext cx="1846080" cy="623880"/>
          </a:xfrm>
          <a:prstGeom prst="rect">
            <a:avLst/>
          </a:prstGeom>
          <a:ln w="0">
            <a:noFill/>
          </a:ln>
        </p:spPr>
      </p:pic>
      <p:pic>
        <p:nvPicPr>
          <p:cNvPr id="80" name="Immagine 9" descr="Descrizione: http://www.sega.org.mk/web/images/Logoa/youth_logo.jpg"/>
          <p:cNvPicPr/>
          <p:nvPr/>
        </p:nvPicPr>
        <p:blipFill>
          <a:blip r:embed="rId2"/>
          <a:stretch/>
        </p:blipFill>
        <p:spPr>
          <a:xfrm>
            <a:off x="3870360" y="419040"/>
            <a:ext cx="1285920" cy="62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ECMYNN---Logo2"/>
          <p:cNvPicPr/>
          <p:nvPr/>
        </p:nvPicPr>
        <p:blipFill>
          <a:blip r:embed="rId3"/>
          <a:stretch/>
        </p:blipFill>
        <p:spPr>
          <a:xfrm>
            <a:off x="7015320" y="419040"/>
            <a:ext cx="1409400" cy="590760"/>
          </a:xfrm>
          <a:prstGeom prst="rect">
            <a:avLst/>
          </a:prstGeom>
          <a:ln w="0">
            <a:noFill/>
          </a:ln>
        </p:spPr>
      </p:pic>
      <p:sp>
        <p:nvSpPr>
          <p:cNvPr id="82" name="CasellaDiTesto 4"/>
          <p:cNvSpPr/>
          <p:nvPr/>
        </p:nvSpPr>
        <p:spPr>
          <a:xfrm>
            <a:off x="365040" y="1131840"/>
            <a:ext cx="85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 GATHERED GUIDELINES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. NEETS MOTIVATION (MANAGEMENT)</a:t>
            </a:r>
            <a:r>
              <a:rPr b="1" lang="mr-IN" sz="1800" spc="-1" strike="noStrike">
                <a:solidFill>
                  <a:srgbClr val="000000"/>
                </a:solidFill>
                <a:latin typeface="Arial"/>
                <a:ea typeface="Mang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563840"/>
          <a:ext cx="9144000" cy="5290920"/>
        </p:xfrm>
        <a:graphic>
          <a:graphicData uri="http://schemas.openxmlformats.org/drawingml/2006/table">
            <a:tbl>
              <a:tblPr/>
              <a:tblGrid>
                <a:gridCol w="1544760"/>
                <a:gridCol w="3065400"/>
                <a:gridCol w="4533840"/>
              </a:tblGrid>
              <a:tr h="49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Guidel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Specif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92120">
                <a:tc row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Motivation of NE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Young NEET have potential to grow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These young people have potential “talent” that they are not able to show and use. So an Inspireship process is need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NEETs are unmotiv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They are unmotivated; reason seems to be the difficulty to understand the complexity of the world and the potential support they can get in formal way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Youth understand the importance of professional self-awareness pathway just running on it during the path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Professional self-awareness pathways are hard and demanding at the beginning. Anyway young Neets understood the value and work on it in the proper way after some initial problem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Priority is fight against in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A way to fight against youth inactivity is to offer job training, courses, and also cultural and leisure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Personalised coaching is essent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The individual support of the coach is really effective in terms of activation and motiv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A good C.V. is a good passport to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The involvement of counselors for C.V. editing is really important in perspective to find a jo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Program of activities for NEETs must be flex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It is very important to pander the NEETs’ needs to avoid the risks of abandon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Soft skills development is cru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Non-formal education and arts are crucial for soft-skills development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Self employment and entrepreneurship are words to be cleaned from f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mbria"/>
                          <a:ea typeface="ＭＳ 明朝"/>
                        </a:rPr>
                        <a:t>NEETs are intimidated by idea to became an entrepreneur, due to taxes, lack of capital, ecc. A good mentoring can drive them to be more confid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6T08:10:40Z</dcterms:created>
  <dc:creator>nico</dc:creator>
  <dc:description/>
  <dc:language>en-US</dc:language>
  <cp:lastModifiedBy>Centrala</cp:lastModifiedBy>
  <dcterms:modified xsi:type="dcterms:W3CDTF">2017-04-19T12:19:35Z</dcterms:modified>
  <cp:revision>124</cp:revision>
  <dc:subject/>
  <dc:title>Main Problems of services system for NEET people</dc:title>
</cp:coreProperties>
</file>